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9972B-3BF2-40D3-A5FF-24171197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3A5EC-1F4B-4F03-A123-509F0C89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5AF59-3FDB-42EC-BB8D-9F957A698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022A2-7B89-4B4D-B1A6-0ADBA1C3A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340F-38A0-4FAF-931F-79ACA1B96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5318-0612-4A58-AD93-0A4E6A8D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20DB-E2CF-4EE6-9C07-8CE9C8BF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2BFC8-127D-41C2-8E47-E1BDF6CC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6C57-EFD9-4B03-ACE0-20804903E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59E3-81E2-41F2-AD60-A0B22634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20A8-5256-443B-A985-2C9573C7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42C7A-6E95-4A6B-B86F-6CAE34FD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BB13-0A32-4E77-9004-B9DD4D2A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2D78-1024-4AFC-AD77-ABE48597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7EB87-F3FB-4246-8AF2-10B78123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2F979-AB7A-4F18-A63A-4235C033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3F9F-286A-47C9-92E3-EA7DFD5FE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C484E-257D-4B28-8086-3086E449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670AF-35A9-4C8F-97BE-88982022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DA0F7-B496-49D2-9D46-1C5F2EB0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D9721-00C0-4098-B450-B3ED125A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60A90-3540-467A-BCD0-D4F406C5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0882D-D2C9-40C7-999C-35D15040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387B2-2988-4F66-8C53-A123DD78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CC08-EAE2-4F3C-A564-B1AE3AE7ABB0}" type="slidenum"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A86B-7201-422D-9903-123D5F25FF86}" type="slidenum"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s.wikipedia.org/wiki/Di&#225;logo" TargetMode="External"/><Relationship Id="rId3" Type="http://schemas.openxmlformats.org/officeDocument/2006/relationships/hyperlink" Target="http://es.wikipedia.org/wiki/Comunicaci&#243;n" TargetMode="External"/><Relationship Id="rId4" Type="http://schemas.openxmlformats.org/officeDocument/2006/relationships/hyperlink" Target="http://es.wikipedia.org/wiki/Lenguaje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3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Arial"/>
              </a:rPr>
              <a:t>Conversaciones Difíci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28036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granad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comparación interesante de los autores sobre 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versaciones difíciles es la sigui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existe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“tirar una granada de mano en forma diplomátic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ar un mensaje difícil es como tirar una granada, endulzada, lanzada más o menos suavemente, la granada siempre será una granada y hará daño.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o hay manera de arrojarla con tacto para evitar consecuenci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odríamos guardarnos la granada para nosotros. Por ejemplo no decir nada. Tampoco es lo mej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o dar un mensaje difícil es como retener una granada, sin el seguro colocado.</a:t>
            </a:r>
            <a:br>
              <a:rPr sz="2200"/>
            </a:b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1471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411120" y="592920"/>
            <a:ext cx="85536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Toda conversación difícil implica enredarse en estas </a:t>
            </a: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tres conversaciones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, para manejarlas con éxito es necesario aprender como desenvolverse eficazmente en cada uno de estos tres camp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Ecuación simple para definir el Stres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S (Stress) = D (Demandas) – C (Capacidad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¿Como disminuimos en Stress que nos genera la conversació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Aumentando nuestras capacidades para dialogar, pasando de una </a:t>
            </a: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Batalla de Mensajes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 a una </a:t>
            </a:r>
            <a:r>
              <a:rPr b="1" lang="es-AR" sz="2200" spc="-1" strike="noStrike">
                <a:solidFill>
                  <a:srgbClr val="000000"/>
                </a:solidFill>
                <a:latin typeface="Arial"/>
              </a:rPr>
              <a:t>Conversación Constructiva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 (o de Aprendizaj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200" spc="-1" strike="noStrike">
                <a:solidFill>
                  <a:srgbClr val="000000"/>
                </a:solidFill>
                <a:latin typeface="Arial"/>
              </a:rPr>
              <a:t>Disminuyendo las Demandas, evitando la convers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79280" y="620640"/>
          <a:ext cx="8856720" cy="936720"/>
        </p:xfrm>
        <a:graphic>
          <a:graphicData uri="http://schemas.openxmlformats.org/drawingml/2006/table">
            <a:tbl>
              <a:tblPr/>
              <a:tblGrid>
                <a:gridCol w="8856720"/>
              </a:tblGrid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"La conversación del que Pasó"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o: </a:t>
                      </a: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situación es más compleja de  lo que pueden ver las  part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79280" y="1673280"/>
          <a:ext cx="8856720" cy="676080"/>
        </p:xfrm>
        <a:graphic>
          <a:graphicData uri="http://schemas.openxmlformats.org/drawingml/2006/table">
            <a:tbl>
              <a:tblPr/>
              <a:tblGrid>
                <a:gridCol w="4340160"/>
                <a:gridCol w="4516560"/>
              </a:tblGrid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alla de Mensaj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versación Constructiv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79280" y="2532240"/>
          <a:ext cx="8856720" cy="3705120"/>
        </p:xfrm>
        <a:graphic>
          <a:graphicData uri="http://schemas.openxmlformats.org/drawingml/2006/table">
            <a:tbl>
              <a:tblPr/>
              <a:tblGrid>
                <a:gridCol w="4291200"/>
                <a:gridCol w="4565520"/>
              </a:tblGrid>
              <a:tr h="664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ver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2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osición:</a:t>
                      </a: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Yo sé todo lo que necesito saber para entender lo que pasó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osición:</a:t>
                      </a: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ada uno de nosotros aporta  información y percepciones distint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8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:</a:t>
                      </a: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Persuadirlos de que yo tengo la razó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: </a:t>
                      </a: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lorar las historias de cada uno; buscar la forma de entender a los otro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24000" y="592200"/>
          <a:ext cx="8640720" cy="533160"/>
        </p:xfrm>
        <a:graphic>
          <a:graphicData uri="http://schemas.openxmlformats.org/drawingml/2006/table">
            <a:tbl>
              <a:tblPr/>
              <a:tblGrid>
                <a:gridCol w="4254480"/>
                <a:gridCol w="4386240"/>
              </a:tblGrid>
              <a:tr h="533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alla de Mensaj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versación Constructiv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24000" y="1278000"/>
          <a:ext cx="8640720" cy="5319720"/>
        </p:xfrm>
        <a:graphic>
          <a:graphicData uri="http://schemas.openxmlformats.org/drawingml/2006/table">
            <a:tbl>
              <a:tblPr/>
              <a:tblGrid>
                <a:gridCol w="4257360"/>
                <a:gridCol w="4383360"/>
              </a:tblGrid>
              <a:tr h="455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intenc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2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osición:</a:t>
                      </a: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Yo sé la intención que ellos tuvieron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osición:</a:t>
                      </a: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Yo sé cuáles fueron mis propias intenciones y sé el impacto que las acciones de ellos tuvieron en mi; yo no sé, ni puedo saber lo que ellos tienen en ment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:</a:t>
                      </a: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Hacerles saber que lo que ellos hicieron fue equivocado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:</a:t>
                      </a: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ompartir con ellos el impacto que sus acciones tuvieron sobre mi y averiguar que lo que ellos están pensando. Averiguar también el impacto que mis acciones pueden tener en ello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57200" y="1550880"/>
          <a:ext cx="8218440" cy="4830840"/>
        </p:xfrm>
        <a:graphic>
          <a:graphicData uri="http://schemas.openxmlformats.org/drawingml/2006/table">
            <a:tbl>
              <a:tblPr/>
              <a:tblGrid>
                <a:gridCol w="4048200"/>
                <a:gridCol w="4170240"/>
              </a:tblGrid>
              <a:tr h="752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culp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0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osición:</a:t>
                      </a: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Toda la culpa es de ello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osición:</a:t>
                      </a: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Probablemente ambos hemos contribuido a este problema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7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:</a:t>
                      </a: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Lograr que ellos admitan la culpa y que se responsabilicen de hacer las correcciones del caso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: </a:t>
                      </a: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ender el sistema de contribuciones y la forma como las diferentes acciones interactuaron para producir esos resultado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57200" y="620640"/>
          <a:ext cx="8229600" cy="719280"/>
        </p:xfrm>
        <a:graphic>
          <a:graphicData uri="http://schemas.openxmlformats.org/drawingml/2006/table">
            <a:tbl>
              <a:tblPr/>
              <a:tblGrid>
                <a:gridCol w="4052880"/>
                <a:gridCol w="417672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alla de Mensaj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versación Constructiv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79280" y="620640"/>
          <a:ext cx="8785440" cy="936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936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La conversación de los sentimientos"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o: </a:t>
                      </a:r>
                      <a:r>
                        <a:rPr b="0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situación está cargada emocionalmen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79280" y="1673280"/>
          <a:ext cx="8785440" cy="676080"/>
        </p:xfrm>
        <a:graphic>
          <a:graphicData uri="http://schemas.openxmlformats.org/drawingml/2006/table">
            <a:tbl>
              <a:tblPr/>
              <a:tblGrid>
                <a:gridCol w="4392720"/>
                <a:gridCol w="4392720"/>
              </a:tblGrid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alla de Mensaj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versación Constructiv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250920" y="2565360"/>
          <a:ext cx="8713800" cy="4106880"/>
        </p:xfrm>
        <a:graphic>
          <a:graphicData uri="http://schemas.openxmlformats.org/drawingml/2006/table">
            <a:tbl>
              <a:tblPr/>
              <a:tblGrid>
                <a:gridCol w="4290840"/>
                <a:gridCol w="4422960"/>
              </a:tblGrid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osición:</a:t>
                      </a: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Los sentimientos no importan y compartirlos no ayudaría. (O mis sentimientos son culpa de los demás y por eso deben conocerlos)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osición:</a:t>
                      </a: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Los sentimientos son el corazón de la situación y son generalmente complejos; tenemos que profundizarlos para entenderlos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:</a:t>
                      </a: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Evitar hablar de los sentimientos. (O ventilemos los sentimientos con fortaleza)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:</a:t>
                      </a: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Presentar los sentimientos de ambos sin juicios, sin culpabilidades, ni atribuir intenciones negativas; reconocer los sentimientos antes de resolver el problema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79280" y="692280"/>
          <a:ext cx="8856720" cy="936360"/>
        </p:xfrm>
        <a:graphic>
          <a:graphicData uri="http://schemas.openxmlformats.org/drawingml/2006/table">
            <a:tbl>
              <a:tblPr/>
              <a:tblGrid>
                <a:gridCol w="8856720"/>
              </a:tblGrid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La conversación de identidad"               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o:</a:t>
                      </a:r>
                      <a:r>
                        <a:rPr b="0" lang="es-ES_tradnl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a situación amenaza nuestra entid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179280" y="1773360"/>
          <a:ext cx="8785440" cy="576000"/>
        </p:xfrm>
        <a:graphic>
          <a:graphicData uri="http://schemas.openxmlformats.org/drawingml/2006/table">
            <a:tbl>
              <a:tblPr/>
              <a:tblGrid>
                <a:gridCol w="4321440"/>
                <a:gridCol w="4464000"/>
              </a:tblGrid>
              <a:tr h="576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talla de Mensaj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versación Constructiv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50920" y="2565360"/>
          <a:ext cx="8713800" cy="3940200"/>
        </p:xfrm>
        <a:graphic>
          <a:graphicData uri="http://schemas.openxmlformats.org/drawingml/2006/table">
            <a:tbl>
              <a:tblPr/>
              <a:tblGrid>
                <a:gridCol w="4255920"/>
                <a:gridCol w="4457880"/>
              </a:tblGrid>
              <a:tr h="18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osición:</a:t>
                      </a: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O soy competente o soy incompetente; bueno o malo; amable o detestable. No hay término medio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posición:</a:t>
                      </a: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ada uno de nosotros es complejo, nadie es perfecto; puede haber mucho que analizar desde el punto de vista psicológico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:</a:t>
                      </a: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Proteger la imagen que tengo de mí mismo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a:</a:t>
                      </a:r>
                      <a:r>
                        <a:rPr b="0" lang="es-AR" sz="2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Entender los temas que tengan que ver con la identidad de ambas partes. Construir una imagen más completa de nosotros mismos para mantener mi balanc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250920" y="846360"/>
            <a:ext cx="8713800" cy="55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ómo comenzar y mantener una conversación difíc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comienzo de una conversación de este tipo es uno de los temas más complej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Habitualmente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comenzamos con nuestro punto de vista,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vamos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directo al problema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y levantamos inmediatamente un problema de imagen o identidad en el otro,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oniéndolo así a la defensiva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200"/>
            </a:b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Quede muy molesto con lo que dijiste a nuestro jef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Mensaje implíci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 el peor de los casos, me traicionaste; 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mejor fuiste estúpi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324000" y="692280"/>
            <a:ext cx="835164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a forma altern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1°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Comenzar con una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“tercera historia”,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es decir la situación vista como un mediador, que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sume ambas historias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y crea una tercera totalmente creíble para cada uno de los interesad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a nueva historia evita los juicios de valor y se centra fundamentalmente en las diferenci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2°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Invitar a la otra parte a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buscar juntos la solución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, viendo el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unto de vista de cada uno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y empezando por lo que impor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3°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Recorrer el camino de las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tres conversaciones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, escuchando las historias mediante la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cucha activa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arafraseando para mostrar interés,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reguntando y siendo curio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68360" y="692280"/>
            <a:ext cx="842472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cucha ac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epararse interiormente para escuchar al ot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xpresar al otro que le escuchas con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(ya veo, umm,uh, etc. ) y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no verbal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(contacto visual, gestos,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rafrase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Verificar o decir con las propias palabras lo que parece que el emisor acaba de dec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eguntas abiert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Podría explicarme …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En que grado está Ud. de acuerd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Suponiendo..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é piensan otros sobre este problem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ién más participa en este proces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Qué importancia tiene….. para Ud.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¿Cómo ve Ud………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versaciones Difíc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042920" y="1530720"/>
            <a:ext cx="748980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l modelo de conversaciones difíciles esta basado en el trabajo de Stone, Patton y Heen académicos del Proyecto de Negociación de Harvard (PON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ntenta abordar efectivamente instancias difíciles en la comunicación entre las partes, para las cuales el modelo de negociación de Harvard no daba respuestas (Negociación basada en Interes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324000" y="587520"/>
            <a:ext cx="8640720" cy="61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olución del Problema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xtraer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 esencia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de las tres conversaciones cuáles fueron los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hechos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entimientos y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roblemas de imagen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se levantaron durante la interacción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objetivo es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re-encuadrar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, buscando la verdad en las diferentes historias y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xplicitar cómo se está dando la situación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, qué se va descubriendo y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cordando.</a:t>
            </a:r>
            <a:br>
              <a:rPr sz="2200"/>
            </a:br>
            <a:br>
              <a:rPr sz="2200"/>
            </a:b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Finalmente buscar opciones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que sean justas para ambos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 no hay acuerdo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pensar la salida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que contemple el cuidado mutu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Tener paciencia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, revisar las alternativas y buscar otras nuevas. Mantener la comunicación abierta a medida que se avanz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Darse tiempo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179280" y="2659680"/>
            <a:ext cx="8785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comic"/>
              </a:rPr>
              <a:t>Muchas Gracia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ttp://4.bp.blogspot.com/-60sChcmPmlY/TZXhvY8bxGI/AAAAAAAAAJg/AH0m4eUHNCs/s1600/comunicacion.jpg"/>
          <p:cNvPicPr/>
          <p:nvPr/>
        </p:nvPicPr>
        <p:blipFill>
          <a:blip r:embed="rId1"/>
          <a:stretch/>
        </p:blipFill>
        <p:spPr>
          <a:xfrm>
            <a:off x="1500120" y="1989000"/>
            <a:ext cx="5953320" cy="40100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324000" y="57960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vers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s un </a:t>
            </a:r>
            <a:r>
              <a:rPr b="0" lang="es-ES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diálog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tre dos o más personas. Se establece una </a:t>
            </a:r>
            <a:r>
              <a:rPr b="0" lang="es-ES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comunicac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a través del </a:t>
            </a:r>
            <a:r>
              <a:rPr b="0" lang="es-ES" sz="24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lengu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3"/>
          <p:cNvSpPr/>
          <p:nvPr/>
        </p:nvSpPr>
        <p:spPr>
          <a:xfrm>
            <a:off x="538200" y="770760"/>
            <a:ext cx="813744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¿Qué es una conversación difícil?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a conversación en la que tengamos que hablar de algo que nos resulta incómodo (el tema es lo difícil o la interacción con el otro es lo difíci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jemplos: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ar una evaluación desfavorable a un emple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municar a un amigo que está despedi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formar al Cliente que el proyecto en el que trabaja tomar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doble de lo que se le prometi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arle feed-back al jefe acerca de su comportami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inalizar una rel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edir a un amigo que nos devuelvan dinero que prestam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68"/>
          <p:cNvSpPr/>
          <p:nvPr/>
        </p:nvSpPr>
        <p:spPr>
          <a:xfrm>
            <a:off x="503280" y="623160"/>
            <a:ext cx="846144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n una conversación difícil se llevan a cabo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tres convers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a conversación de qué pas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Implican un desacuerdo sobre lo que pasó o debió pas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¿Quién dijo qué y quién hizo qué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¿Quién tiene raz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Quién quería decir qué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¿Quién tiene la culp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68360" y="766080"/>
            <a:ext cx="849636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a presunción de la ver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las conversaciones difíciles casi nunca se trat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b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er hech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trata de percepciones, interpretaciones y valores que entran en confli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invención de la in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ponemos que conocemos la intención de los otros cuando no es as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marco de la cul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s concentramos en encontrar quién tiene la culp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lo nos impide averiguar por qué resultaron mal las cosas y como podríamos corregirlas en el fut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503280" y="977040"/>
            <a:ext cx="84614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a conversación de los sentimi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Se hacen o responden preguntas sobre los sent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¿Mis sentimientos son válido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¿Apropiad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¿Debo reconocerlos o negarl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¿Los pongo sobre la mesa o los guar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¿Qué hago en relación con los sentimientos de la otra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perso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¿Qué pasa si se siente furiosa o herid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503280" y="644760"/>
            <a:ext cx="846144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Arial"/>
              </a:rPr>
              <a:t>La conversación de la ident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Es la conversación que cada uno de nosotros tiene consigo mismo sobre lo que significa la sit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¿Somos o no competente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¿Buenas o malas person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¿Dignas de afecto o desagradab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¿Qué impacto puede tener esto en nuestra propia imagen y autoesti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Arial"/>
              </a:rPr>
              <a:t>¿Qué consecuencias sobre nuestro futuro y bienest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uestras respuestas a estas preguntas determinan en gran medida si nos sentim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“equilibrados”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“desconcentrados o ansios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611280" y="621720"/>
            <a:ext cx="7921440" cy="59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reacción natural ante este tipo de conversaciones es tratar de evitarlas y hay diferentes motivos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unos de ellos son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os convencemos de que hablar sobre el problema puede empeorarlo más que resolverlo (por ejemplo, plantearle algún desacuerdo a un jefe).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o queremos sentirnos mal, ni hacer sentir mal a otros.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vitamos la posibilidad de tener que escuchar cosas sobre nosotros mismos que no queremos escuchar.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ememos las consecuencias y  la reacción del otro (que el otro se enoje, que no interprete lo que queremos transmitirle, que cambie la relación que se tenía previamente, etc.)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5T21:15:53Z</dcterms:created>
  <dc:creator>U200102</dc:creator>
  <dc:description/>
  <dc:language>en-US</dc:language>
  <cp:lastModifiedBy>mcalvarez</cp:lastModifiedBy>
  <dcterms:modified xsi:type="dcterms:W3CDTF">2012-05-18T20:18:54Z</dcterms:modified>
  <cp:revision>137</cp:revision>
  <dc:subject/>
  <dc:title>Diapositiva 1</dc:title>
</cp:coreProperties>
</file>